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media/image4.png" ContentType="image/png"/>
  <Override PartName="/ppt/media/whoosh.wav" ContentType="audio/x-wav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61FB1-A1AF-4D52-A56C-483B46E2DF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ifying Express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: Karen Overm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ifying Express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: Karen Overm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ke Te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ke terms are terms with the same variables raised to the same pow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nt: The idea is that the variable part of the terms must be identical for them to be like terms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ke Te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ke terms are terms with the same variables raised to the same pow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nt: The idea is that the variable part of the terms must be identical for them to be like terms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ke Te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x , -14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6.7xy , 02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ariable factors 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dentic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like Te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x , 8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ariable factors a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identical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ke Te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x , -14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6.7xy , 02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ariable factors 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dentic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like Te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x , 8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ariable factors a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identical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bining Like Te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all the Distributive Proper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(b + c) = b(a) +c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see how like terms are combined use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butive Property in rever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x + 7x = x (5 + 7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x (1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12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bining Like Te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all the Distributive Proper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(b + c) = b(a) +c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see how like terms are combined use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butive Property in rever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x + 7x = x (5 + 7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x (1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12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that work is not necessary every ti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y identify the like terms and add thei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effici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x + 7y – x + 5y   =   4x – x + 7y +5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  3x + 12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that work is not necessary every ti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y identify the like terms and add thei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effici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x + 7y – x + 5y   =   4x – x + 7y +5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  3x + 12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lecting Like Terms Exa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lecting Like Terms Exa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Ski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example requires both the Distributiv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perty and combining like ter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(x – 2) –3(2x – 7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bute the 5 and the –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(5) - 2(5) + 2x(-3) - 7(-3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x – 10 – 6x + 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bine like ter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x+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Ski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example requires both the Distributiv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perty and combining like ter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(x – 2) –3(2x – 7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bute the 5 and the –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(5) - 2(5) + 2x(-3) - 7(-3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x – 10 – 6x + 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bine like ter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x+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implifying Exa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ifying Exa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implifying Exa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istribu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ifying Exa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bu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implifying Exa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istribu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ifying Exa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bu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ifying Exa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bu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bine like ter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ifying Exa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bu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bine like ter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jec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resentation is designed to give a brief review of simplifying algebraic expressions and evaluating algebraic express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jec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resentation is designed to give a brief review of simplifying algebraic expressions and evaluating algebraic express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ifying Exa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bu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bine like ter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ifying Exa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bu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bine like ter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aluating Express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 to use correct order of oper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aluate the expression  2x – 3xy +4y 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= 3 and y = -5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find the numerical value of the expression, simply replace the variables in the expression with the appropriate numb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aluating Express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 to use correct order of oper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aluate the expression  2x – 3xy +4y 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= 3 and y = -5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find the numerical value of the expression, simply replace the variables in the expression with the appropriate numb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aluate 2x–3xy +4y  when x = 3 and y = -5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stitute in the numb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(3) – 3(3)(-5) + 4(-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correct order of oper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 + 45 – 2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1 – 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aluate 2x–3xy +4y  when x = 3 and y = -5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stitute in the numb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(3) – 3(3)(-5) + 4(-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correct order of oper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 + 45 – 2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1 – 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valuating Exa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aluating Exa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aluating Exa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stitute in the numb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aluating Exa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stitute in the numb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aluating Exa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stitute in the numb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aluating Exa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stitute in the numb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aluating Exa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 correct order of oper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stitute in the numb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aluating Exa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 correct order of oper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stitute in the numb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Mistak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orr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r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Mistak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orr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r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ebraic Express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gebraic expression is a collection of real numbers, variables, grouping symbols and operation symbo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 are some examples of algebraic express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ebraic Express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gebraic expression is a collection of real numbers, variables, grouping symbols and operation symbo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 are some examples of algebraic express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ider the example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erms of the expression are separated by addition. There are 3 terms in this example and they are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efficient of a variable term is the real number factor. The first term has coefficient of 5. The second term has an unwritten coefficient of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ast term , -7, is called a constant since there is no variable in the te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ider the example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erms of the expression are separated by addition. There are 3 terms in this example and they are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efficient of a variable term is the real number factor. The first term has coefficient of 5. The second term has an unwritten coefficient of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ast term , -7, is called a constant since there is no variable in the te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t’s begin with a review of two important skills for simplifying expression, using the Distributive Property and combining like terms. Then we will use both skills in the same simplifying probl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t’s begin with a review of two important skills for simplifying expression, using the Distributive Property and combining like terms. Then we will use both skills in the same simplifying probl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butive Proper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( b + c ) = ba + 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simplify some expressions we may need to use the Distributive Proper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you remember i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butive Proper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butive Proper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( b + c ) = ba + 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simplify some expressions we may need to use the Distributive Proper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you remember i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butive Proper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1:  6(x +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bute the 6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 (x + 2) =  x(6) + 2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 6x  + 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2:  -4(x –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bute the –4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4 (x – 3) =  x(-4) –3(-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  -4x   + 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1:  6(x +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bute the 6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 (x + 2) =  x(6) + 2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 6x  + 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2:  -4(x –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bute the –4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4 (x – 3) =  x(-4) –3(-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  -4x   + 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actic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y the Distributive Property on -7 ( x – 2 ) 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 sure to multiply each term by a –7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7 ( x – 2 )  = x(-7) – 2(-7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 -7x  +  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ice when a negative is distributed all the signs of the terms in the ( )’s chan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actic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y the Distributive Property on -7 ( x – 2 ) 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 sure to multiply each term by a –7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7 ( x – 2 )  = x(-7) – 2(-7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 -7x  +  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ice when a negative is distributed all the signs of the terms in the ( )’s chan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s with 1 and –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3:   (x –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1( x – 2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x(1) – 2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x  - 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ice multiplying by a 1 does nothing to the expression in the ( )’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4: -(4x – 3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-1(4x –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4x(-1) – 3(-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-4x +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ice that multiplying by a –1 changes the signs of each term in the ( )’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s with 1 and –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3:   (x –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1( x – 2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x(1) – 2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x  - 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ice multiplying by a 1 does nothing to the expression in the ( )’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4: -(4x – 3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-1(4x –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4x(-1) – 3(-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-4x +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ice that multiplying by a –1 changes the signs of each term in the ( )’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5904E-17F6-4517-A932-0DEECCAB0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519F6-D96A-4AD8-8B43-5A24001C4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E0C02-D76B-4B48-8984-47A87A530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DC3D7-DDFC-4AD0-9287-DB517080E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B3E8C-2113-40CB-93E0-5D8E04151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540C3-A933-4F18-A239-28D93F430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1D7B6-904E-484F-BB16-37C5F5EA9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E3241-AD4B-41F9-966C-20B148028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18CC8-ABD2-462B-B5E8-AF7E6EF61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56CFD-B39C-4927-ADE9-3751FBFF6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7C469-EB4D-4A6E-A3F7-732D3636C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F5738-5768-4679-B4D3-2E34B979A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7722A-84B0-496C-B6F4-13551ACE4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C02CB-9C91-4867-84A3-DDC3293C1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68825-3339-413E-AA88-10F23C2D8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2EB1E-984E-41D3-B75B-93EF039FA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DA9B4-CEB3-4CB9-BB31-C29E0FC45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B09FE-4755-4539-BAF0-66F7B90BB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49813-1120-454F-93E5-C11BE242F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54E2C-3F22-4B0E-9F22-B646542F3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73187-E38D-4CC3-A58B-3431518FB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CA5C1-B25A-4543-AA04-3A2A966C6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10AAD-7477-44EC-8715-7B3C49558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A4CCD-B97D-4272-9EE4-FD8729C95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37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Line 39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Picture 42" descr="A:\minispir.GIF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43" descr="A:\minispir.GIF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420FE-4AE0-4570-8F82-6CFA0D1069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3" descr="A:\minispir.GIF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5" descr="A:\minispir.GIF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C9D46-3100-4861-9132-B2B0CD2FEA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7.png"/><Relationship Id="rId9" Type="http://schemas.openxmlformats.org/officeDocument/2006/relationships/audio" Target="../media/whoosh.wav"/><Relationship Id="rId10" Type="http://schemas.openxmlformats.org/officeDocument/2006/relationships/audio" Target="../media/whoosh.wav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audio" Target="../media/whoosh.wav"/><Relationship Id="rId10" Type="http://schemas.openxmlformats.org/officeDocument/2006/relationships/audio" Target="../media/whoosh.wav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Simplifying Expression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62576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: Karen Overm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Like Term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Like term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re terms with the same variables raised to the same pow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nt: The idea is that the variable part of the terms must be identical for them to be like terms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Example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Like Te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x , -14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6.7xy , 02x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variable factors 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entic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9528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Unlike Te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x , 8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variable factors a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 identical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Object 5"/>
              <p:cNvSpPr txBox="1"/>
              <p:nvPr/>
            </p:nvSpPr>
            <p:spPr>
              <a:xfrm>
                <a:off x="5943600" y="3276720"/>
                <a:ext cx="190512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y</m:t>
                    </m:r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8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x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40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ombining Like Term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all the Distributive Proper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(b + c) = b(a) +c(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see how like terms are combined use t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tributive Property in rever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7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5 + 7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1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12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Example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that work is not necessary every ti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mply identify the like terms and add thei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effici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x + 7y – x + 5y   =   4x – x + 7y +5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  3x + 12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ollecting Like Terms Exampl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Object 4"/>
              <p:cNvSpPr txBox="1"/>
              <p:nvPr/>
            </p:nvSpPr>
            <p:spPr>
              <a:xfrm>
                <a:off x="1371600" y="1905120"/>
                <a:ext cx="6629400" cy="396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4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y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Reorder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the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term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t xml:space="preserve">4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y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mbine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like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term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y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0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Both Skill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219320" y="182880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example requires both the Distributiv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perty and combining like ter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(x – 2) –3(2x – 7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tribute the 5 and the –3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(5) - 2(5) + 2x(-3) - 7(-3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x – 10 – 6x + 2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e like ter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x+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Simplifying Exampl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" name="Object 4"/>
              <p:cNvSpPr txBox="1"/>
              <p:nvPr/>
            </p:nvSpPr>
            <p:spPr>
              <a:xfrm>
                <a:off x="3200400" y="1752480"/>
                <a:ext cx="2514600" cy="8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6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</m:d>
                    <m:r>
                      <m:t xml:space="preserve">+</m:t>
                    </m:r>
                    <m:r>
                      <m:t xml:space="preserve">3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57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Simplifying Exampl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tribu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0" name="Object 4"/>
              <p:cNvSpPr txBox="1"/>
              <p:nvPr/>
            </p:nvSpPr>
            <p:spPr>
              <a:xfrm>
                <a:off x="3200400" y="1752480"/>
                <a:ext cx="2514600" cy="8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6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</m:d>
                    <m:r>
                      <m:t xml:space="preserve">+</m:t>
                    </m:r>
                    <m:r>
                      <m:t xml:space="preserve">3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61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Simplifying Exampl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tribu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4" name="Object 4"/>
              <p:cNvSpPr txBox="1"/>
              <p:nvPr/>
            </p:nvSpPr>
            <p:spPr>
              <a:xfrm>
                <a:off x="3200400" y="1752480"/>
                <a:ext cx="2514600" cy="8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6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</m:d>
                    <m:r>
                      <m:t xml:space="preserve">+</m:t>
                    </m:r>
                    <m:r>
                      <m:t xml:space="preserve">3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Object 5"/>
              <p:cNvSpPr txBox="1"/>
              <p:nvPr/>
            </p:nvSpPr>
            <p:spPr>
              <a:xfrm>
                <a:off x="2666880" y="2971800"/>
                <a:ext cx="4038840" cy="14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6</m:t>
                        </m:r>
                        <m:r>
                          <m:t xml:space="preserve">x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  <m:r>
                          <m:t xml:space="preserve">+</m:t>
                        </m:r>
                        <m:r>
                          <m:t xml:space="preserve">x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</m:e>
                        </m:d>
                        <m:r>
                          <m:t xml:space="preserve">−</m:t>
                        </m:r>
                        <m:r>
                          <m:t xml:space="preserve">4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r>
                          <m:t xml:space="preserve">5</m:t>
                        </m:r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66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Simplifying Exampl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tribu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like ter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Object 4"/>
              <p:cNvSpPr txBox="1"/>
              <p:nvPr/>
            </p:nvSpPr>
            <p:spPr>
              <a:xfrm>
                <a:off x="3200400" y="1752480"/>
                <a:ext cx="2514600" cy="8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6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</m:d>
                    <m:r>
                      <m:t xml:space="preserve">+</m:t>
                    </m:r>
                    <m:r>
                      <m:t xml:space="preserve">3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" name="Object 5"/>
              <p:cNvSpPr txBox="1"/>
              <p:nvPr/>
            </p:nvSpPr>
            <p:spPr>
              <a:xfrm>
                <a:off x="2666880" y="2971800"/>
                <a:ext cx="4038840" cy="14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6</m:t>
                        </m:r>
                        <m:r>
                          <m:t xml:space="preserve">x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  <m:r>
                          <m:t xml:space="preserve">+</m:t>
                        </m:r>
                        <m:r>
                          <m:t xml:space="preserve">x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</m:e>
                        </m:d>
                        <m:r>
                          <m:t xml:space="preserve">−</m:t>
                        </m:r>
                        <m:r>
                          <m:t xml:space="preserve">4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r>
                          <m:t xml:space="preserve">5</m:t>
                        </m:r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71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Objectiv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presentation is designed to give a brief review of simplifying algebraic expressions and evaluating algebraic express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4" descr="c:\Program Files\Microsoft Office\Clipart\standard\stddir1\bd05053_.wmf"/>
          <p:cNvPicPr/>
          <p:nvPr/>
        </p:nvPicPr>
        <p:blipFill>
          <a:blip r:embed="rId1"/>
          <a:stretch/>
        </p:blipFill>
        <p:spPr>
          <a:xfrm>
            <a:off x="3429000" y="3962520"/>
            <a:ext cx="3083040" cy="2114280"/>
          </a:xfrm>
          <a:prstGeom prst="rect">
            <a:avLst/>
          </a:prstGeom>
          <a:ln w="0">
            <a:noFill/>
          </a:ln>
        </p:spPr>
      </p:pic>
      <p:sp>
        <p:nvSpPr>
          <p:cNvPr id="103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Simplifying Exampl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tribu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like ter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4" name="Object 4"/>
              <p:cNvSpPr txBox="1"/>
              <p:nvPr/>
            </p:nvSpPr>
            <p:spPr>
              <a:xfrm>
                <a:off x="3200400" y="1752480"/>
                <a:ext cx="2514600" cy="8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6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</m:d>
                    <m:r>
                      <m:t xml:space="preserve">+</m:t>
                    </m:r>
                    <m:r>
                      <m:t xml:space="preserve">3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Object 5"/>
              <p:cNvSpPr txBox="1"/>
              <p:nvPr/>
            </p:nvSpPr>
            <p:spPr>
              <a:xfrm>
                <a:off x="2666880" y="2971800"/>
                <a:ext cx="4038840" cy="14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6</m:t>
                        </m:r>
                        <m:r>
                          <m:t xml:space="preserve">x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  <m:r>
                          <m:t xml:space="preserve">+</m:t>
                        </m:r>
                        <m:r>
                          <m:t xml:space="preserve">x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</m:e>
                        </m:d>
                        <m:r>
                          <m:t xml:space="preserve">−</m:t>
                        </m:r>
                        <m:r>
                          <m:t xml:space="preserve">4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r>
                          <m:t xml:space="preserve">5</m:t>
                        </m:r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Object 6"/>
              <p:cNvSpPr txBox="1"/>
              <p:nvPr/>
            </p:nvSpPr>
            <p:spPr>
              <a:xfrm>
                <a:off x="3505320" y="5105520"/>
                <a:ext cx="114300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7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Evaluating Expression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066320" y="49525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member to use correct order of opera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4"/>
          <p:cNvSpPr/>
          <p:nvPr/>
        </p:nvSpPr>
        <p:spPr>
          <a:xfrm>
            <a:off x="1523880" y="1828800"/>
            <a:ext cx="6570720" cy="14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aluate the expression  2x – 3xy +4y  wh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 = 3 and y = -5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ectangle 6"/>
          <p:cNvSpPr/>
          <p:nvPr/>
        </p:nvSpPr>
        <p:spPr>
          <a:xfrm>
            <a:off x="1523880" y="3352680"/>
            <a:ext cx="716292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the numerical value of the expression, simply replace the variables in the expression with the appropriate numb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valuate 2x–3xy +4y  when x = 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y = </a:t>
            </a: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-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bstitute in the numb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(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– 3(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(</a:t>
            </a: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-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+ 4(</a:t>
            </a: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-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correct order of opera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 + 45 – 20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1 – 2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Evaluating Exampl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Object 4"/>
              <p:cNvSpPr txBox="1"/>
              <p:nvPr/>
            </p:nvSpPr>
            <p:spPr>
              <a:xfrm>
                <a:off x="1143000" y="1981080"/>
                <a:ext cx="708660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valuate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xy</m:t>
                    </m:r>
                    <m:r>
                      <m:t xml:space="preserve">+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when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and</m:t>
                    </m:r>
                    <m:r>
                      <m:t xml:space="preserve"> 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9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Evaluating Exampl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bstitute in the numb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2" name="Object 1028"/>
              <p:cNvSpPr txBox="1"/>
              <p:nvPr/>
            </p:nvSpPr>
            <p:spPr>
              <a:xfrm>
                <a:off x="1066680" y="1752480"/>
                <a:ext cx="708660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valuate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xy</m:t>
                    </m:r>
                    <m:r>
                      <m:t xml:space="preserve">+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when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and</m:t>
                    </m:r>
                    <m:r>
                      <m:t xml:space="preserve"> 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3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Evaluating Exampl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bstitute in the numb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Object 4"/>
              <p:cNvSpPr txBox="1"/>
              <p:nvPr/>
            </p:nvSpPr>
            <p:spPr>
              <a:xfrm>
                <a:off x="1066680" y="1752480"/>
                <a:ext cx="708660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valuate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xy</m:t>
                    </m:r>
                    <m:r>
                      <m:t xml:space="preserve">+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when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and</m:t>
                    </m:r>
                    <m:r>
                      <m:t xml:space="preserve"> 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" name="Object 5"/>
              <p:cNvSpPr txBox="1"/>
              <p:nvPr/>
            </p:nvSpPr>
            <p:spPr>
              <a:xfrm>
                <a:off x="2895480" y="3048120"/>
                <a:ext cx="342900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+</m:t>
                    </m:r>
                    <m:r>
                      <m:t xml:space="preserve">3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98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Evaluating Exampl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066320" y="3733920"/>
            <a:ext cx="76201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member correct order of opera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1" name="Object 4"/>
              <p:cNvSpPr txBox="1"/>
              <p:nvPr/>
            </p:nvSpPr>
            <p:spPr>
              <a:xfrm>
                <a:off x="1295280" y="1828800"/>
                <a:ext cx="708660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valuate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xy</m:t>
                    </m:r>
                    <m:r>
                      <m:t xml:space="preserve">+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when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and</m:t>
                    </m:r>
                    <m:r>
                      <m:t xml:space="preserve"> 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" name="Object 5"/>
              <p:cNvSpPr txBox="1"/>
              <p:nvPr/>
            </p:nvSpPr>
            <p:spPr>
              <a:xfrm>
                <a:off x="2895480" y="3048120"/>
                <a:ext cx="342900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+</m:t>
                    </m:r>
                    <m:r>
                      <m:t xml:space="preserve">3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03" name="Text Box 7"/>
          <p:cNvSpPr/>
          <p:nvPr/>
        </p:nvSpPr>
        <p:spPr>
          <a:xfrm>
            <a:off x="1219320" y="2362320"/>
            <a:ext cx="3894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bstitute in the numb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" name="Object 8"/>
              <p:cNvSpPr txBox="1"/>
              <p:nvPr/>
            </p:nvSpPr>
            <p:spPr>
              <a:xfrm>
                <a:off x="3505320" y="4419720"/>
                <a:ext cx="243828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−</m:t>
                    </m:r>
                    <m:r>
                      <m:t xml:space="preserve">4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+</m:t>
                    </m:r>
                    <m:r>
                      <m:t xml:space="preserve">3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" name="Object 9"/>
              <p:cNvSpPr txBox="1"/>
              <p:nvPr/>
            </p:nvSpPr>
            <p:spPr>
              <a:xfrm>
                <a:off x="3733920" y="5181480"/>
                <a:ext cx="182880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+</m:t>
                    </m:r>
                    <m:r>
                      <m:t xml:space="preserve">8</m:t>
                    </m:r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Object 10"/>
              <p:cNvSpPr txBox="1"/>
              <p:nvPr/>
            </p:nvSpPr>
            <p:spPr>
              <a:xfrm>
                <a:off x="4419720" y="5715000"/>
                <a:ext cx="380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7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ommon Mistake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ncorr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9528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rr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1" name="Object 5"/>
          <p:cNvGraphicFramePr/>
          <p:nvPr/>
        </p:nvGraphicFramePr>
        <p:xfrm>
          <a:off x="5029200" y="3962520"/>
          <a:ext cx="342900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9200" y="3962520"/>
                    <a:ext cx="342900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3" name="Object 6"/>
          <p:cNvGraphicFramePr/>
          <p:nvPr/>
        </p:nvGraphicFramePr>
        <p:xfrm>
          <a:off x="5029200" y="2438280"/>
          <a:ext cx="3429000" cy="1409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4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29200" y="2438280"/>
                    <a:ext cx="3429000" cy="140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5" name="Object 7"/>
          <p:cNvGraphicFramePr/>
          <p:nvPr/>
        </p:nvGraphicFramePr>
        <p:xfrm>
          <a:off x="1219320" y="3962520"/>
          <a:ext cx="3514680" cy="1314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6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19320" y="3962520"/>
                    <a:ext cx="3514680" cy="131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7" name="Object 8"/>
          <p:cNvGraphicFramePr/>
          <p:nvPr/>
        </p:nvGraphicFramePr>
        <p:xfrm>
          <a:off x="1219320" y="2438280"/>
          <a:ext cx="3504960" cy="1438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18" name="Object 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219320" y="2438280"/>
                    <a:ext cx="3504960" cy="143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9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Algebraic Expression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lgebraic express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a collection of real numbers, variables, grouping symbols and operation symbol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re are some examples of algebraic express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Object 4"/>
              <p:cNvSpPr txBox="1"/>
              <p:nvPr/>
            </p:nvSpPr>
            <p:spPr>
              <a:xfrm>
                <a:off x="1295280" y="4495680"/>
                <a:ext cx="7067520" cy="86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5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7</m:t>
                    </m:r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4</m:t>
                    </m:r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xy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7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07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21304"/>
                </a:solidFill>
                <a:latin typeface="Times New Roman"/>
              </a:rPr>
              <a:t>Consider the example:</a:t>
            </a: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erms of the expr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separated by addition. There are 3 terms in this example and they are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efficien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a variable term is the real number factor. The first term has coefficient of 5. The second term has an unwritten coefficient of 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last term , -7, is called a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nsta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nce there is no variable in the ter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Object 4"/>
              <p:cNvSpPr txBox="1"/>
              <p:nvPr/>
            </p:nvSpPr>
            <p:spPr>
              <a:xfrm>
                <a:off x="4952880" y="685800"/>
                <a:ext cx="148608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Object 7"/>
              <p:cNvSpPr txBox="1"/>
              <p:nvPr/>
            </p:nvSpPr>
            <p:spPr>
              <a:xfrm>
                <a:off x="1523880" y="2514600"/>
                <a:ext cx="1524240" cy="50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2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’s begin with a review of two important skills for simplifying expression, using the Distributive Property and combining like terms. Then we will use both skills in the same simplifying probl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Distributive Property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2057040" y="4648320"/>
            <a:ext cx="472428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2000"/>
          </a:bodyPr>
          <a:p>
            <a:pPr marL="212400" indent="-2124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12400" indent="-2124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( b + c ) = ba + 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12400" indent="-2124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6"/>
          <p:cNvSpPr/>
          <p:nvPr/>
        </p:nvSpPr>
        <p:spPr>
          <a:xfrm>
            <a:off x="1143000" y="1905120"/>
            <a:ext cx="723888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simplify some expressions we may need to use the Distributive Proper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7"/>
          <p:cNvSpPr/>
          <p:nvPr/>
        </p:nvSpPr>
        <p:spPr>
          <a:xfrm>
            <a:off x="1295280" y="3048120"/>
            <a:ext cx="3649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 you remember i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8"/>
          <p:cNvSpPr/>
          <p:nvPr/>
        </p:nvSpPr>
        <p:spPr>
          <a:xfrm>
            <a:off x="2664360" y="4267080"/>
            <a:ext cx="392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Distributive Proper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75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75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Example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0666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Example 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 6(x + 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tribute the 6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x + 2) =  x(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+ 2(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 6x  +  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9528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Example 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 -4(x – 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tribute the –4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-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x – 3) =  x(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-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–3(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-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  -4x   +  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Practice Problem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y the Distributive Property on -7 ( x – 2 ) 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 sure to multiply each term by a –7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-7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 x – 2 )  = x(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-7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– 2(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-7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 -7x  +  1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ice when a negative is distributed all the signs of the terms in the ( )’s chan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1304"/>
                </a:solidFill>
                <a:latin typeface="Times New Roman"/>
              </a:rPr>
              <a:t>Examples with 1 and –1.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 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  (x –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 x – 2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x(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– 2(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x  - 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ice multiplying by a 1 does nothing to the expression in the ( )’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9528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 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-(4x – 3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4x –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4x(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– 3(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-4x +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ice that multiplying by a –1 changes the signs of each term in the ( )’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1T18:30:02Z</dcterms:created>
  <dc:creator>TCC</dc:creator>
  <dc:description/>
  <dc:language>en-US</dc:language>
  <cp:lastModifiedBy>LEGION</cp:lastModifiedBy>
  <dcterms:modified xsi:type="dcterms:W3CDTF">2017-07-06T06:39:42Z</dcterms:modified>
  <cp:revision>31</cp:revision>
  <dc:subject/>
  <dc:title>Simplifying Expressions</dc:title>
</cp:coreProperties>
</file>